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15C-374A-4DF7-8C40-AC1CEF24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155-3C99-4776-87E0-D948C29C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054-0156-45D3-9845-9B9CDF1B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504C-6051-40CD-A9ED-E240ACED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EA40-2E4C-490D-B374-4435E22E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8FB6-09B7-4AEA-B93C-78E88B41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A31-9211-4C28-8B6F-90DE425D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0C5D-64A2-4880-B4B5-E7FA7F71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9A61-72A1-4B0F-8E6D-BE7AF4C2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E1AA-B0C6-4F4F-888E-133FCEAD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EE8-8081-42CA-8814-554FC32E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4A90-5515-4908-B054-8509D116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A540-7707-4345-8EFC-22F2F260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8D06-6C7E-43B3-A4DF-3B0715C5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7961-AA9B-4D71-AA0F-5E6587BB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0EB3-6281-4810-80D8-123E5C8E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BAE3-4A4C-4675-A63A-3D204568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060-EF83-42BB-969D-8716147B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D31-53D4-48AE-8D9A-CF09FAD7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5F6-187E-437A-8663-CB96AEF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C73-105F-4E6A-B0D8-3B3DB2C6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E0C-4DAD-4781-8CB1-F7B6C7D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2A4-078F-4C2D-BD83-ADB7A585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8477-EF54-4066-8E0A-82C89E93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16C1-2EEC-4107-9FF8-23B9A7629E2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7C19-59C0-4831-BD7C-AEF3094217D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Present Perfect Ten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астоящее совершенное врем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91636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211640" y="3141720"/>
            <a:ext cx="23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.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7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381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казатели времени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ready (ye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cently (latel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wee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n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ye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mor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eve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сутствие показателя време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, результат не важен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yester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личай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362320"/>
          <a:ext cx="7693200" cy="288432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Perfect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esent Continuou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завершилось в прошлом, но имеет отношение к настоящему моменту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йствие все еще длится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have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today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am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earning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the rule now.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ветьте на вопро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обознач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 Дайте пример употреб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образуе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строится общий вопрос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кажите показатели времени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ем отличаются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Perfect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st Simple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560" indent="-4575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на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Обозначает действие, которое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завершилось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в прошлом, но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имеет отношение</a:t>
            </a:r>
            <a:r>
              <a:rPr b="0" lang="ru-RU" sz="2600" spc="-1" strike="noStrike">
                <a:solidFill>
                  <a:srgbClr val="003366"/>
                </a:solidFill>
                <a:latin typeface="Arial"/>
              </a:rPr>
              <a:t> к настоящему моменту. Результат этого действия налиц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: Mum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has cooked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77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ма приготовила ужин (результат – ужин готов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842920" y="256500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33cc"/>
                </a:solidFill>
                <a:latin typeface="Arial"/>
              </a:rPr>
              <a:t>Have/has</a:t>
            </a:r>
            <a:r>
              <a:rPr b="0" lang="en-US" sz="50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5640" y="378936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ve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question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55640" y="4508640"/>
            <a:ext cx="612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has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ed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 the USA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разов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066920" y="2349360"/>
            <a:ext cx="115236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9312200">
            <a:off x="3924000" y="321264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908000" y="350028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508720" y="3500280"/>
            <a:ext cx="2158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Неправильны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3500000">
            <a:off x="5017320" y="3201120"/>
            <a:ext cx="325440" cy="206640"/>
          </a:xfrm>
          <a:prstGeom prst="leftArrow">
            <a:avLst>
              <a:gd name="adj1" fmla="val 50000"/>
              <a:gd name="adj2" fmla="val 3937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765440" y="4005360"/>
            <a:ext cx="79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o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2268360" y="4005360"/>
            <a:ext cx="129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nsw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3349800" y="4005360"/>
            <a:ext cx="72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e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364000" y="4005360"/>
            <a:ext cx="2737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e – saw –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se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щи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1403280" y="3141720"/>
            <a:ext cx="6193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23600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08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пециа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443640" y="314172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прос к подлежащем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556000" y="3141720"/>
            <a:ext cx="38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49236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8317080" y="314172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300720" y="314172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755640" y="3141720"/>
            <a:ext cx="9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Who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700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3366"/>
                </a:solidFill>
                <a:uFillTx/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20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льтернатив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556000" y="3213000"/>
            <a:ext cx="20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90800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8459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500720" y="3213000"/>
            <a:ext cx="216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40328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516720" y="3213000"/>
            <a:ext cx="22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Arial"/>
              </a:rPr>
              <a:t>or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had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dinner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45663E-006 L -0.03402 -0.05667 C -0.04097 -0.06986 -0.05173 -0.07633 -0.06267 -0.07633 C -0.07517 -0.07633 -0.08541 -0.06986 -0.09236 -0.05667 L -0.12604 -2.45663E-006 E">
                                      <p:cBhvr>
                                        <p:cTn id="260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опросительная форм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льный вопрос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908000" y="3213000"/>
            <a:ext cx="208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already 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60360" y="321300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7451640" y="321300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52720" y="321300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755640" y="321300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867280" y="321300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n’t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2268360" y="4005360"/>
            <a:ext cx="100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n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260360" y="4005360"/>
            <a:ext cx="12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hasn’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443640" y="4005360"/>
            <a:ext cx="43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3132000" y="400536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is homework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755640" y="400536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5148360" y="4005360"/>
            <a:ext cx="172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, has</a:t>
            </a: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 he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 А.В.</cp:lastModifiedBy>
  <dcterms:modified xsi:type="dcterms:W3CDTF">2009-09-23T03:54:37Z</dcterms:modified>
  <cp:revision>18</cp:revision>
  <dc:subject/>
  <dc:title>The Present Perfect Tense</dc:title>
</cp:coreProperties>
</file>